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1BC-E71E-4693-9324-23279ABD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EB3-BE82-4131-9265-5633798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E69-7EAA-4BF0-9875-E313CD13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6AB-01D5-45E8-B50F-EBEC42C4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FE8-D25C-4555-A68A-C53911F3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942-3C9B-4A13-8A54-7AE53462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1D0-C26B-4B9B-854B-64410D4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089-105B-42C4-9004-8A081CF5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A55-C11F-4494-83C9-A7261832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1B8-3FA5-41C0-ABBC-65B7AFF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EC0-1D24-48F4-B939-0D79E7E7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9C4-570B-4042-B147-75C103A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11D8-5750-45FD-9744-0506840591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5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st Borough Primary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bitats and Food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971720" cy="7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nimals do not eat other animals. They survive on plants and are known as “herb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14520" y="3581280"/>
            <a:ext cx="2905200" cy="26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15000" y="3962520"/>
            <a:ext cx="138096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nimals, like us, eat both plants an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animals are called “om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666880" cy="2311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229536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ume” means “ea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mal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um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cause they “eat” (consume) food provided by plants or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26684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304640" cy="123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324480" y="4419720"/>
            <a:ext cx="1524240" cy="14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re living organisms. They need nourishment to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do not eat other plants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duc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because they produce their own food using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dator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91320" y="274320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1440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do b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at is a predator, because it eats 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ear is a predator, because it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ople are predators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48006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animal which is hunted and killed by another animal for food i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8120" y="3505320"/>
            <a:ext cx="2743200" cy="260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4038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ch the predator to its p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1441440" cy="1757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219320" y="4495680"/>
            <a:ext cx="1719000" cy="142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733920" y="4724280"/>
            <a:ext cx="1828800" cy="97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638680" y="3962520"/>
            <a:ext cx="10670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dators and 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191120" cy="2797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9480" y="4800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animals are predators, some are prey - some are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65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edat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prey, and the pre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ts eat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 the pred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91320" y="2895480"/>
            <a:ext cx="1406520" cy="1724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252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ly is eaten by the thru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cosystem refers to all the animals and plants found in one place, and the way they all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plants and animals live in different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ecosystems can be clos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animals belong to several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ettuce is eaten by the rab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523880" y="3200400"/>
            <a:ext cx="110520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chains always start with a pl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429240" y="2362320"/>
            <a:ext cx="2028960" cy="2485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1104840" cy="1009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76720" y="3200400"/>
            <a:ext cx="228600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809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ettuce is eaten by the slug, the slug is eaten by the b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Chains - a Rem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od chain shows which animals eat other animals or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don’t eat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od chain starts with what gets eaten and the arrows point towards what does the 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od chains only go in on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 the arrows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1104840" cy="1009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90920" y="2133720"/>
            <a:ext cx="1447560" cy="588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800600" y="1905120"/>
            <a:ext cx="1571760" cy="1522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934320" y="16002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0574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981440" cy="974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962520" y="4648320"/>
            <a:ext cx="1323720" cy="933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62120" y="419112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548604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6668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op of the food ch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animals are said to be at the top of the food chain. This is because they are not hunted by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657520" cy="2600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9880" y="4038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other animal hunts the lion. The lion is at the top of the food chain. Can you think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wild, animals may eat more than one thing, so they belong to more than one food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get the food they need, small herbivores may eat lots of different plants, and carnivores may eat many different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can show this by using a food web, which is just a more complicated version of a food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40384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55627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5146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4674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1981080" y="47242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724280" y="4571640"/>
            <a:ext cx="19814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980720" y="3047760"/>
            <a:ext cx="48769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81080" y="2971800"/>
            <a:ext cx="4800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980720" y="4572000"/>
            <a:ext cx="4800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eaking th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sms living in a habitat depend o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one part of a food chain dies out or is greatly reduced, the consumers have to find alternative food, move away, or st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then affects more consumers in the sam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angered or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is not true for all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some cases, there are only a few of one type of animal left in the w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animal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danger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y die out completely, they becom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tin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lots of reasons why animals become endangered or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comm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s of habitat (woodlands cut down, rivers drying up, hedgerows remov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s or pollution poison the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nting (for sport, their fur, tusks or m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5410080"/>
            <a:ext cx="874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828800" y="5599080"/>
            <a:ext cx="990720" cy="69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666880" y="2590920"/>
            <a:ext cx="586080" cy="63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477120" y="2362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48720" y="533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838080" y="60948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772400" y="4114800"/>
            <a:ext cx="781200" cy="56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4038480" y="3352680"/>
            <a:ext cx="685800" cy="55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09480" y="3733920"/>
            <a:ext cx="1067040" cy="76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4343400" y="5638680"/>
            <a:ext cx="936720" cy="6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ing for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 - once something becomes extinct, it’s gone for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n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thing that affects an animal makes up its environment - where it lives, the weather and all the living things it comes into contact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 living thing, including people, has an effect upon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imal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living things have to be suited to their environment if they are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sh have streamlined bodies, fins and specially shaped tails to help them move quickly and easily through the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irrels have sharp, strong claws for gripping tree trunks and branches and strong teeth for eating 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the seal adapted to its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114720" cy="2600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5880" y="4038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ippers to help i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line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ck layer of body fat to keep i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42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teeth to catch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ward-facing eyes for clear vision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nd legs have evolved into a a strong rudder-like 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819520"/>
            <a:ext cx="1295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6880" y="2971800"/>
            <a:ext cx="2210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81480" y="251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791320" y="426672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343400" y="39625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286000" y="46483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s and Habi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ace where an animal lives is called its hab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nimal lives where it can find food, water, shelter and a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2286000" cy="20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living things (organisms) need food (nourishment) to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ving things in an ecosystem depend on each other for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nimals, like the kingfisher, eat only other animals. These animals are called “car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24280" y="3800520"/>
            <a:ext cx="2305080" cy="260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057400" y="4422600"/>
            <a:ext cx="1981080" cy="83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1:58:16Z</dcterms:created>
  <dc:creator>West Borough Primary School</dc:creator>
  <dc:description/>
  <dc:language>en-US</dc:language>
  <cp:lastModifiedBy>WinuE</cp:lastModifiedBy>
  <cp:lastPrinted>2001-06-02T23:25:40Z</cp:lastPrinted>
  <dcterms:modified xsi:type="dcterms:W3CDTF">2009-11-02T20:32:07Z</dcterms:modified>
  <cp:revision>12</cp:revision>
  <dc:subject/>
  <dc:title>West Borough Primary School</dc:title>
</cp:coreProperties>
</file>